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369C-7DCB-4DC1-B5BF-444AA6A3192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5EB-EDB1-408C-ADEF-F07F47653D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750-1D65-49DD-8A90-B54748C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1B0-B5ED-43BE-92A4-8441521B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8A2-451F-470B-BD78-BED2ED65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600-0E7F-4D67-87C4-FD91D4E5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EF7E-B7EA-48BE-9D86-E7634C31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BC7-5D5F-4A01-B0C7-9BE040C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B861-7FE3-4AB6-8DC7-AFCE477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88DE-F6FF-405D-AC85-6DB94F5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2B25-F41F-4BAB-9129-F0F723A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F691-CFC0-43CC-8AC8-49A0DF9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48E-2ED3-4773-9C3F-FB6B51A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4C8-E40E-4CFF-B678-49658B0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D6F7-C71C-4B5B-8831-4446F08C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A8E-EE6C-47D5-9988-9E2DA4E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2696-CBB6-4397-8B1D-BC7D650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C4A-04A2-4F2F-90FB-A9F5F41A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7EF8-874F-41F0-880E-75940BDF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1CC-FF5C-4A7C-8145-390546F2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D01-CF0D-4872-9603-57A9ECA5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026-AAA7-45BB-898A-35FB9E7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AB8-14A9-4340-BAEB-9BCDA1E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36F-5651-4FEC-9968-F335469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84D-5C09-4716-A787-0091634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359-9D0F-42F5-A3C6-5037778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5E3-BFC4-48F7-A7B8-41787AD959A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488-AC18-40D8-8871-48B010BCBB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katie@timeschange.or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r2"/>
          <p:cNvPicPr/>
          <p:nvPr/>
        </p:nvPicPr>
        <p:blipFill>
          <a:blip r:embed="rId1"/>
          <a:stretch/>
        </p:blipFill>
        <p:spPr>
          <a:xfrm>
            <a:off x="0" y="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536400" y="1603440"/>
            <a:ext cx="8455320" cy="2262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ocated at 365 Bloor Street East (Bloor/Sherbourne) Suite 170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ronto, 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Object 2" descr=""/>
          <p:cNvPicPr/>
          <p:nvPr/>
        </p:nvPicPr>
        <p:blipFill>
          <a:blip r:embed="rId3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rc4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allway"/>
          <p:cNvPicPr/>
          <p:nvPr/>
        </p:nvPicPr>
        <p:blipFill>
          <a:blip r:embed="rId5"/>
          <a:stretch/>
        </p:blipFill>
        <p:spPr>
          <a:xfrm>
            <a:off x="3429000" y="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r1"/>
          <p:cNvPicPr/>
          <p:nvPr/>
        </p:nvPicPr>
        <p:blipFill>
          <a:blip r:embed="rId6"/>
          <a:stretch/>
        </p:blipFill>
        <p:spPr>
          <a:xfrm>
            <a:off x="5410080" y="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obboard1"/>
          <p:cNvPicPr/>
          <p:nvPr/>
        </p:nvPicPr>
        <p:blipFill>
          <a:blip r:embed="rId7"/>
          <a:stretch/>
        </p:blipFill>
        <p:spPr>
          <a:xfrm>
            <a:off x="190512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9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10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are we Unique?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pecific to wo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 Workbo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nline Useful Links section on websit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pportunities to connect with mentors and local business communit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entury Gothic"/>
              </a:rPr>
              <a:t>Enhanced Referral process for Men/Youth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Parliament TCET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t 595 Parliament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Newcomer Information Centr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3 Charles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Youth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YES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555 Richmond Street Wes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f you have male clients, you can refer them to these locations direct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0" y="5257800"/>
            <a:ext cx="192096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To Ref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can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ll (416) 927- 1900 ex0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rop In during business hou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gn up for Getting Stared orientation sess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O Service Provider: Confirm with client that they are not registered with another agenc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 ‘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Ready’: Clients that are ready to look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r work or for training/caree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Loc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65 Bloor Street East Suite 1704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at Sherbourne Statio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ll us: 416 927 19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rvice Hour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day - Thursday 9:00 a.m. to 5:0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iday 9:00 a.m. to 2:3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are a perfume free enviro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ontact Inform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Katie Didy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rketing/Outreach Coordinato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16-927-1900, ext. 222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f5f5f"/>
                </a:solidFill>
                <a:uFillTx/>
                <a:latin typeface="Century Gothic"/>
                <a:hlinkClick r:id="rId1"/>
              </a:rPr>
              <a:t>katie@timeschange.or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nd us on facebook for up to date employment and career information and advic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We are hiring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0" y="5143680"/>
            <a:ext cx="205740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acebook_Logo 19.gif"/>
          <p:cNvPicPr/>
          <p:nvPr/>
        </p:nvPicPr>
        <p:blipFill>
          <a:blip r:embed="rId6"/>
          <a:stretch/>
        </p:blipFill>
        <p:spPr>
          <a:xfrm>
            <a:off x="6629400" y="4267080"/>
            <a:ext cx="703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o We Ar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n-profit employment community agency helping women with their employment goals across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nded during the women’s movement in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ded by: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United Way and Ontario Women’s Directorat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rate as a collective agency with staff of 10 and volunteers to assist cli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brated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niversary last Nov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O Service Provid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itted to providing excellent customer service and client satisfact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ll suite of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cused on employment resul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lient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5-65 from all backgrounds and cultu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fe, supportive enviro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nadian born citizens, permanent residence, refugee claima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me services are available to all clients regardless of statu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jority from St. Jamestown are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ing to find opportunities to network outside of their commun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nguage: Swahili, Spanish, Mandarin, French, Romania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lunteer Opportun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at We Do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SSISTE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er Planning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Search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Placement and Reten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NASSISTE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Career Strategy and Ontario Self Employment Benefi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ume Clin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Room (&amp; computer workshop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ource Centre (&amp; job boar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5270400"/>
            <a:ext cx="1905120" cy="1587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and Un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 require counselling services, attend a workshop, or are referred to other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se clients will go into our CAMS-EOIS database system and will be required to give SIN #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Un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se needs are met using the Resource Centre, Resume Clinic, Second Career, or computers, including computer workshop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ligibility for 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employed/unemployed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loyment workshops are open for working 20 hours or l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 SIN numb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nguage: ESL Level 6 or LINC level 5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 currently registered at another EO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vice provider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3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Services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Search Workshop: 4 morning workshop offered each wee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: Offered every 5 week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Placement: based on ability to match skill set of client to employer need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Unassisted Service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: one on one appointmen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Career and OSEB: applications and referral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Tutorials: independent and flexibl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Workshops: Introductory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: resources for job search and career planning purpos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21:27Z</dcterms:created>
  <dc:creator>Katie</dc:creator>
  <dc:description/>
  <dc:language>en-US</dc:language>
  <cp:lastModifiedBy>aholmes</cp:lastModifiedBy>
  <dcterms:modified xsi:type="dcterms:W3CDTF">2011-07-08T18:45:10Z</dcterms:modified>
  <cp:revision>44</cp:revision>
  <dc:subject/>
  <dc:title>Times Change Women’s Employment Service</dc:title>
</cp:coreProperties>
</file>